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B050-FE99-45B0-89B4-A21908B4E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BA0B-DC41-4358-B6AC-36C54BB6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C984-7846-428E-B43E-494D06FC0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1B0B-E2FD-4934-A617-AA5A05E73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A55E-6C4C-4468-9BFF-93E02C31C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12F9-B950-4001-90A2-F75D14D84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A004-8BAC-4C37-B4B0-D50287726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1F81-A68A-4A49-8C06-A4B1E2431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D0CF-E419-46F3-98FD-EB3E268E4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1924-45A8-465E-9CDC-ADD12BB7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27B7-345E-4F8F-8E6E-ECE1B18B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9A6F-5969-4D5C-BA60-16228ADD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576B7-D657-40C4-BD57-8BB6674A8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img378"/>
          <p:cNvPicPr/>
          <p:nvPr/>
        </p:nvPicPr>
        <p:blipFill>
          <a:blip r:embed="rId1"/>
          <a:stretch/>
        </p:blipFill>
        <p:spPr>
          <a:xfrm>
            <a:off x="1403280" y="260280"/>
            <a:ext cx="6337440" cy="43768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389520" y="1673280"/>
            <a:ext cx="118620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がん診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主治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精密検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増悪時の治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な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386000" y="3137040"/>
            <a:ext cx="2305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HGｺﾞｼｯｸE"/>
                <a:ea typeface="HGｺﾞｼｯｸE"/>
              </a:rPr>
              <a:t>がん拠点病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7464240" y="1312920"/>
            <a:ext cx="10990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がん診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定期的検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投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その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併存疾患診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な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7013520" y="3452760"/>
            <a:ext cx="637920" cy="398880"/>
          </a:xfrm>
          <a:prstGeom prst="rect">
            <a:avLst/>
          </a:prstGeom>
          <a:solidFill>
            <a:srgbClr val="98d0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連携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4275720" y="4437000"/>
            <a:ext cx="6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「わたしのカルテ」、「連携ノート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4347360" y="260280"/>
            <a:ext cx="6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「わたしのカルテ」、「連携ノート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4543200" y="4869000"/>
            <a:ext cx="320760" cy="459720"/>
          </a:xfrm>
          <a:prstGeom prst="rect">
            <a:avLst/>
          </a:prstGeom>
          <a:solidFill>
            <a:srgbClr val="e3ebb3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地域連携クリテイカルパスを用いた、がん診療連携とは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4183560" y="28526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がん患者さ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333360" y="5556240"/>
            <a:ext cx="854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「連携パス」とは、地域のかかりつけ医と大阪国際がんセンターの医師が、あなたの治療経過を共有できる「治療計画表」のことです。「連携パス」を活用し、かかりつけ医と大阪国際がんセンターの医師が協力して、あなたの治療を行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6T11:33:56Z</dcterms:created>
  <dc:creator>東山聖彦</dc:creator>
  <dc:description/>
  <dc:language>en-US</dc:language>
  <cp:lastModifiedBy>坪田　喜美</cp:lastModifiedBy>
  <dcterms:modified xsi:type="dcterms:W3CDTF">2018-06-20T05:50:13Z</dcterms:modified>
  <cp:revision>6</cp:revision>
  <dc:subject/>
  <dc:title>スライド 1</dc:title>
</cp:coreProperties>
</file>