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EB1-DD3B-4003-AD0D-ACF7D702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FA0-46F1-4A10-8071-2F302DE7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BFB-12EA-4BB8-9977-9B68D135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DDC-7EAE-4CCD-AB39-71285C73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02A-6567-439D-8A94-B6F93050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7F7-78BD-4DFF-BE24-34146D48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28D-7A33-4667-A205-8C3C9106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DE9-6562-4E95-8AA4-DA31BC38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E56-E715-4176-A79A-84EC6EA1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778-287A-4B38-8FF6-E63AE320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5EB-FE56-41D8-83A5-3FD741CA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3CD-136B-447C-A4A4-AE3EF472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2505-66A9-4234-A5CA-F30C88598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g378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37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9520" y="1673280"/>
            <a:ext cx="11862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主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精密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増悪時の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86000" y="3137040"/>
            <a:ext cx="23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ｺﾞｼｯｸE"/>
                <a:ea typeface="HGｺﾞｼｯｸE"/>
              </a:rPr>
              <a:t>がん拠点病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464240" y="1312920"/>
            <a:ext cx="1099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定期的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投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その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併存疾患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013520" y="3452760"/>
            <a:ext cx="637920" cy="398880"/>
          </a:xfrm>
          <a:prstGeom prst="rect">
            <a:avLst/>
          </a:prstGeom>
          <a:solidFill>
            <a:srgbClr val="98d0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連携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275720" y="44370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347360" y="26028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43200" y="4869000"/>
            <a:ext cx="320760" cy="459720"/>
          </a:xfrm>
          <a:prstGeom prst="rect">
            <a:avLst/>
          </a:prstGeom>
          <a:solidFill>
            <a:srgbClr val="e3ebb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地域連携クリテイカルパスを用いた、がん診療連携と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183560" y="285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がん患者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33360" y="555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「連携パス」とは、地域のかかりつけ医と大阪国際がんセンターの医師が、あなたの治療経過を共有できる「治療計画表」のことです。「連携パス」を活用し、かかりつけ医と大阪国際がんセンターの医師が協力して、あなたの治療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1:33:56Z</dcterms:created>
  <dc:creator>東山聖彦</dc:creator>
  <dc:description/>
  <dc:language>en-US</dc:language>
  <cp:lastModifiedBy>坪田　喜美</cp:lastModifiedBy>
  <cp:lastPrinted>2018-07-30T09:56:53Z</cp:lastPrinted>
  <dcterms:modified xsi:type="dcterms:W3CDTF">2018-07-30T09:57:04Z</dcterms:modified>
  <cp:revision>7</cp:revision>
  <dc:subject/>
  <dc:title>スライド 1</dc:title>
</cp:coreProperties>
</file>