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108-A053-45FE-8C7C-820BE2B4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44F-F28F-473C-866B-58FCCFFE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551-4D09-4B27-9845-0C72B9F8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ACF-0D03-4A60-A5C3-919DBF7D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BFF-858B-486E-9B15-191714C4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C69-B5B6-4439-8137-93D6D443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122-8D04-47A4-940E-38CF91F6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DA6-EBE2-452F-ABFE-9050F037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18E-0938-442B-BCAC-55A807A9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E45-5396-4324-BA2E-1B68973D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FD6-F420-4BF2-8A97-BE4F7698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E64-A65A-4CD8-B8C4-B0BBCDB1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5C4D-4FE1-4015-BFA6-6B1051922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mg378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437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89520" y="1673280"/>
            <a:ext cx="11862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がん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主治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精密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増悪時の治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86000" y="3137040"/>
            <a:ext cx="2305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ｺﾞｼｯｸE"/>
                <a:ea typeface="HGｺﾞｼｯｸE"/>
              </a:rPr>
              <a:t>がん拠点病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464240" y="1312920"/>
            <a:ext cx="1099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がん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定期的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投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その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併存疾患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013520" y="3452760"/>
            <a:ext cx="637920" cy="398880"/>
          </a:xfrm>
          <a:prstGeom prst="rect">
            <a:avLst/>
          </a:prstGeom>
          <a:solidFill>
            <a:srgbClr val="98d0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連携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275720" y="44370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わたしのカルテ」、「連携ノート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347360" y="26028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わたしのカルテ」、「連携ノート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543200" y="4869000"/>
            <a:ext cx="320760" cy="459720"/>
          </a:xfrm>
          <a:prstGeom prst="rect">
            <a:avLst/>
          </a:prstGeom>
          <a:solidFill>
            <a:srgbClr val="e3ebb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地域連携クリテイカルパスを用いた、がん診療連携と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183560" y="2852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がん患者さ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33360" y="5556240"/>
            <a:ext cx="85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「連携パス」とは、地域のかかりつけ医と大阪国際がんセンターの医師が、あなたの治療経過を共有できる「治療計画表」のことです。「連携パス」を活用し、かかりつけ医と大阪国際がんセンターの医師が協力して、あなたの治療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1:33:56Z</dcterms:created>
  <dc:creator>東山聖彦</dc:creator>
  <dc:description/>
  <dc:language>en-US</dc:language>
  <cp:lastModifiedBy>坪田　喜美</cp:lastModifiedBy>
  <dcterms:modified xsi:type="dcterms:W3CDTF">2018-06-20T05:49:23Z</dcterms:modified>
  <cp:revision>6</cp:revision>
  <dc:subject/>
  <dc:title>スライド 1</dc:title>
</cp:coreProperties>
</file>