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1224-F4F7-4DE7-B28A-A7D3C244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B81-4D45-4AAE-871C-E477039B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C163-F0BF-421E-B989-4BB3A090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B377-BE27-462C-881C-07817B35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C8A4-5DE2-4A0D-8795-EF396F53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4DAC-02C9-4BAF-8D90-53238EDD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F2DE-86D5-4472-921F-93FC41A7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E63A-518E-480F-A47F-B3193C85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8ABF-8B56-4C2E-A941-025D3F63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529C-D25A-428F-ABD3-23E3373B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5E76-E67E-4CC1-A093-1A1EEF20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3B00-830D-4AF5-BE65-D589D900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73FE-B168-4E7A-91B2-C2AD57985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mg378"/>
          <p:cNvPicPr/>
          <p:nvPr/>
        </p:nvPicPr>
        <p:blipFill>
          <a:blip r:embed="rId1"/>
          <a:stretch/>
        </p:blipFill>
        <p:spPr>
          <a:xfrm>
            <a:off x="1403280" y="260280"/>
            <a:ext cx="6337440" cy="4376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389520" y="1673280"/>
            <a:ext cx="11862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がん診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主治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精密検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増悪時の治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386000" y="3137040"/>
            <a:ext cx="2305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ｺﾞｼｯｸE"/>
                <a:ea typeface="HGｺﾞｼｯｸE"/>
              </a:rPr>
              <a:t>がん拠点病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464240" y="1312920"/>
            <a:ext cx="1099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がん診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定期的検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投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その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併存疾患診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7013520" y="3452760"/>
            <a:ext cx="637920" cy="398880"/>
          </a:xfrm>
          <a:prstGeom prst="rect">
            <a:avLst/>
          </a:prstGeom>
          <a:solidFill>
            <a:srgbClr val="98d0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連携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275720" y="443700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「わたしのカルテ」、「連携ノート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347360" y="26028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「わたしのカルテ」、「連携ノート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543200" y="4869000"/>
            <a:ext cx="320760" cy="459720"/>
          </a:xfrm>
          <a:prstGeom prst="rect">
            <a:avLst/>
          </a:prstGeom>
          <a:solidFill>
            <a:srgbClr val="e3ebb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地域連携クリテイカルパスを用いた、がん診療連携と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183560" y="28526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がん患者さ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33360" y="5556240"/>
            <a:ext cx="85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「連携パス」とは、地域のかかりつけ医と大阪国際がんセンターの医師が、あなたの治療経過を共有できる「治療計画表」のことです。「連携パス」を活用し、かかりつけ医と大阪国際がんセンターの医師が協力して、あなたの治療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1:33:56Z</dcterms:created>
  <dc:creator>東山聖彦</dc:creator>
  <dc:description/>
  <dc:language>en-US</dc:language>
  <cp:lastModifiedBy>坪田　喜美</cp:lastModifiedBy>
  <dcterms:modified xsi:type="dcterms:W3CDTF">2018-06-20T05:49:03Z</dcterms:modified>
  <cp:revision>6</cp:revision>
  <dc:subject/>
  <dc:title>スライド 1</dc:title>
</cp:coreProperties>
</file>