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D31-D9D5-49CC-8FEA-79863840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110-64A6-4E1F-95D5-6F836D5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1FA-EAE2-4409-A4E7-B036780B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49E-B0BB-44F4-914F-B0977EE1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EFD-6DFC-4FE2-A02D-89C54B53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C88-A318-47DF-B509-B3D49361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F75-1326-40B1-AC54-36B2FB1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918-08E5-4C2F-AF08-903BC759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6B6-BD50-40B2-94A7-9069770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63A-F3E7-44B8-BC3E-B815980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592-6FAA-4CD1-B132-CF0BC956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2E1-818F-4C59-B7F1-62BA30D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1974-1C46-47BD-8840-DB14BE650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3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9520" y="1673280"/>
            <a:ext cx="1186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主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精密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増悪時の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6000" y="313704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ｺﾞｼｯｸE"/>
                <a:ea typeface="HGｺﾞｼｯｸE"/>
              </a:rPr>
              <a:t>がん拠点病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64240" y="1312920"/>
            <a:ext cx="109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定期的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投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併存疾患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013520" y="3452760"/>
            <a:ext cx="637920" cy="398880"/>
          </a:xfrm>
          <a:prstGeom prst="rect">
            <a:avLst/>
          </a:prstGeom>
          <a:solidFill>
            <a:srgbClr val="98d0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連携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75720" y="4437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347360" y="2602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43200" y="4869000"/>
            <a:ext cx="320760" cy="459720"/>
          </a:xfrm>
          <a:prstGeom prst="rect">
            <a:avLst/>
          </a:prstGeom>
          <a:solidFill>
            <a:srgbClr val="e3ebb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地域連携クリテイカルパスを用いた、がん診療連携と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83560" y="285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がん患者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3360" y="555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連携パス」とは、地域のかかりつけ医と大阪国際がんセンターの医師が、あなたの治療経過を共有できる「治療計画表」のことです。「連携パス」を活用し、かかりつけ医と大阪国際がんセンターの医師が協力して、あなたの治療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33:56Z</dcterms:created>
  <dc:creator>東山聖彦</dc:creator>
  <dc:description/>
  <dc:language>en-US</dc:language>
  <cp:lastModifiedBy>坪田　喜美</cp:lastModifiedBy>
  <dcterms:modified xsi:type="dcterms:W3CDTF">2018-06-20T05:10:25Z</dcterms:modified>
  <cp:revision>6</cp:revision>
  <dc:subject/>
  <dc:title>スライド 1</dc:title>
</cp:coreProperties>
</file>