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39B6-0C48-4645-A048-63CA8BFA3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1B49-9CA3-4151-A484-018A5F8D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3B91-B3B7-4A2F-B218-DFB1597F5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5EBD-083E-403E-BF43-178E35F7F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A572-167F-427E-82B4-77D37B5C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7C04-9C3E-4C56-B30F-1B43B280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7ED5-6D69-4B9F-99F0-3883D2CF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9325-ED34-487C-AD33-48F4C796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F9BC-C4CF-4575-8C2D-D8F47C43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2670-FAA2-4C4A-8AF7-1F3A6F40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CC08-5837-4625-9FD7-E40FBA1F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09E2-5EEA-4A29-8459-11E6B8C2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DD6E-DA6A-4E82-97DC-580551711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img378"/>
          <p:cNvPicPr/>
          <p:nvPr/>
        </p:nvPicPr>
        <p:blipFill>
          <a:blip r:embed="rId1"/>
          <a:stretch/>
        </p:blipFill>
        <p:spPr>
          <a:xfrm>
            <a:off x="1403280" y="260280"/>
            <a:ext cx="6337440" cy="43768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389520" y="1673280"/>
            <a:ext cx="11862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がん診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主治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精密検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増悪時の治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な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386000" y="3137040"/>
            <a:ext cx="2305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HGｺﾞｼｯｸE"/>
                <a:ea typeface="HGｺﾞｼｯｸE"/>
              </a:rPr>
              <a:t>がん拠点病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7464240" y="1312920"/>
            <a:ext cx="10990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がん診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定期的検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投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その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併存疾患診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な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7013520" y="3452760"/>
            <a:ext cx="637920" cy="398880"/>
          </a:xfrm>
          <a:prstGeom prst="rect">
            <a:avLst/>
          </a:prstGeom>
          <a:solidFill>
            <a:srgbClr val="98d0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連携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4275720" y="443700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「わたしのカルテ」、「連携ノート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347360" y="26028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「わたしのカルテ」、「連携ノート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543200" y="4869000"/>
            <a:ext cx="320760" cy="459720"/>
          </a:xfrm>
          <a:prstGeom prst="rect">
            <a:avLst/>
          </a:prstGeom>
          <a:solidFill>
            <a:srgbClr val="e3ebb3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地域連携クリテイカルパスを用いた、がん診療連携と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4183560" y="28526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がん患者さ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333360" y="5556240"/>
            <a:ext cx="854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「連携パス」とは、地域のかかりつけ医と大阪国際がんセンターの医師が、あなたの治療経過を共有できる「治療計画表」のことです。「連携パス」を活用し、かかりつけ医と大阪国際がんセンターの医師が協力して、あなたの治療を行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11:33:56Z</dcterms:created>
  <dc:creator>東山聖彦</dc:creator>
  <dc:description/>
  <dc:language>en-US</dc:language>
  <cp:lastModifiedBy>坪田　喜美</cp:lastModifiedBy>
  <dcterms:modified xsi:type="dcterms:W3CDTF">2018-06-20T05:49:40Z</dcterms:modified>
  <cp:revision>6</cp:revision>
  <dc:subject/>
  <dc:title>スライド 1</dc:title>
</cp:coreProperties>
</file>