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B96-27A5-4105-8F09-A54507DC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D1D-81BA-4976-B907-F8ECCD1E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B23-8848-4E2A-B84D-08D66265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60C-089B-43F8-8699-92FD86C0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B07-8512-40DB-A0EB-918B99BB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4AA-F818-41F1-8A59-7621DF1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80C-B8D8-4445-9D0E-25B44E96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D9B-1468-4712-AF1F-1A1780E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650-7847-4F58-B163-C9946EAC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7B2-C486-4244-83B8-3F872B0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614-5456-43C8-A472-EED1B5E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103-B2B8-4FA7-B29F-E2F97BDA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5CCB-C6CD-484A-BA18-5659DF9B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76280" y="493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前立腺がん地域連携パス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医療機関用パス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577880" y="757080"/>
            <a:ext cx="2138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76280" y="757080"/>
            <a:ext cx="1101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生年月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77880" y="428760"/>
            <a:ext cx="2138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76280" y="428760"/>
            <a:ext cx="1101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患者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76280" y="428760"/>
            <a:ext cx="3240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476280" y="75708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476280" y="1085760"/>
            <a:ext cx="3240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476280" y="428760"/>
            <a:ext cx="0" cy="657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1577880" y="428760"/>
            <a:ext cx="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3716280" y="428760"/>
            <a:ext cx="0" cy="657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4930920" y="757080"/>
            <a:ext cx="1736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"/>
          <p:cNvSpPr/>
          <p:nvPr/>
        </p:nvSpPr>
        <p:spPr>
          <a:xfrm>
            <a:off x="3906720" y="757080"/>
            <a:ext cx="1130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阪国際がんセンタ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　　　　　　　　　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930920" y="428760"/>
            <a:ext cx="1736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9"/>
          <p:cNvSpPr/>
          <p:nvPr/>
        </p:nvSpPr>
        <p:spPr>
          <a:xfrm>
            <a:off x="3954600" y="428760"/>
            <a:ext cx="976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紹介元Ｎ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0"/>
          <p:cNvSpPr/>
          <p:nvPr/>
        </p:nvSpPr>
        <p:spPr>
          <a:xfrm>
            <a:off x="3954600" y="428760"/>
            <a:ext cx="27129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1"/>
          <p:cNvSpPr/>
          <p:nvPr/>
        </p:nvSpPr>
        <p:spPr>
          <a:xfrm>
            <a:off x="3954600" y="757080"/>
            <a:ext cx="27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2"/>
          <p:cNvSpPr/>
          <p:nvPr/>
        </p:nvSpPr>
        <p:spPr>
          <a:xfrm>
            <a:off x="3954600" y="1085760"/>
            <a:ext cx="27129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3"/>
          <p:cNvSpPr/>
          <p:nvPr/>
        </p:nvSpPr>
        <p:spPr>
          <a:xfrm>
            <a:off x="3954600" y="428760"/>
            <a:ext cx="0" cy="657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4"/>
          <p:cNvSpPr/>
          <p:nvPr/>
        </p:nvSpPr>
        <p:spPr>
          <a:xfrm>
            <a:off x="4930920" y="428760"/>
            <a:ext cx="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>
            <a:off x="6667560" y="428760"/>
            <a:ext cx="0" cy="657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9"/>
          <p:cNvSpPr/>
          <p:nvPr/>
        </p:nvSpPr>
        <p:spPr>
          <a:xfrm>
            <a:off x="2635200" y="2460600"/>
            <a:ext cx="4032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コメント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0"/>
          <p:cNvSpPr/>
          <p:nvPr/>
        </p:nvSpPr>
        <p:spPr>
          <a:xfrm>
            <a:off x="2635200" y="1803240"/>
            <a:ext cx="403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ＰＳＡ値　  （　　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5"/>
          <p:cNvSpPr/>
          <p:nvPr/>
        </p:nvSpPr>
        <p:spPr>
          <a:xfrm>
            <a:off x="2635200" y="2131920"/>
            <a:ext cx="4032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抗血小板・抗凝固剤　薬剤名（　　　　　　　　　　）・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3"/>
          <p:cNvSpPr/>
          <p:nvPr/>
        </p:nvSpPr>
        <p:spPr>
          <a:xfrm>
            <a:off x="2635200" y="1476360"/>
            <a:ext cx="403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検査日　　（　　　　　　　年　　　　月　　　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2"/>
          <p:cNvSpPr/>
          <p:nvPr/>
        </p:nvSpPr>
        <p:spPr>
          <a:xfrm>
            <a:off x="474840" y="1476360"/>
            <a:ext cx="21603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医院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医師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　　　　　　　　　　　　）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"/>
          <p:cNvSpPr/>
          <p:nvPr/>
        </p:nvSpPr>
        <p:spPr>
          <a:xfrm>
            <a:off x="474840" y="1147680"/>
            <a:ext cx="6192720" cy="32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ＰＳＡ検査結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5"/>
          <p:cNvSpPr/>
          <p:nvPr/>
        </p:nvSpPr>
        <p:spPr>
          <a:xfrm>
            <a:off x="474840" y="114768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6"/>
          <p:cNvSpPr/>
          <p:nvPr/>
        </p:nvSpPr>
        <p:spPr>
          <a:xfrm>
            <a:off x="474840" y="1476360"/>
            <a:ext cx="619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7"/>
          <p:cNvSpPr/>
          <p:nvPr/>
        </p:nvSpPr>
        <p:spPr>
          <a:xfrm>
            <a:off x="474840" y="401796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8"/>
          <p:cNvSpPr/>
          <p:nvPr/>
        </p:nvSpPr>
        <p:spPr>
          <a:xfrm>
            <a:off x="474840" y="1147680"/>
            <a:ext cx="0" cy="2870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>
            <a:off x="6667560" y="1147680"/>
            <a:ext cx="0" cy="2870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7"/>
          <p:cNvSpPr/>
          <p:nvPr/>
        </p:nvSpPr>
        <p:spPr>
          <a:xfrm>
            <a:off x="2635200" y="1476360"/>
            <a:ext cx="0" cy="254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1"/>
          <p:cNvSpPr/>
          <p:nvPr/>
        </p:nvSpPr>
        <p:spPr>
          <a:xfrm>
            <a:off x="2635200" y="1803240"/>
            <a:ext cx="403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2"/>
          <p:cNvSpPr/>
          <p:nvPr/>
        </p:nvSpPr>
        <p:spPr>
          <a:xfrm>
            <a:off x="2635200" y="2460600"/>
            <a:ext cx="403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3"/>
          <p:cNvSpPr/>
          <p:nvPr/>
        </p:nvSpPr>
        <p:spPr>
          <a:xfrm>
            <a:off x="2635200" y="2131920"/>
            <a:ext cx="403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9"/>
          <p:cNvSpPr/>
          <p:nvPr/>
        </p:nvSpPr>
        <p:spPr>
          <a:xfrm>
            <a:off x="2637000" y="4038480"/>
            <a:ext cx="40320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初回受診日　（　　　　　　　年　　　　月　　　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90"/>
          <p:cNvSpPr/>
          <p:nvPr/>
        </p:nvSpPr>
        <p:spPr>
          <a:xfrm>
            <a:off x="2579760" y="4967280"/>
            <a:ext cx="1857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エコー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1"/>
          <p:cNvSpPr/>
          <p:nvPr/>
        </p:nvSpPr>
        <p:spPr>
          <a:xfrm>
            <a:off x="2579760" y="6264360"/>
            <a:ext cx="172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生検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2579760" y="4322880"/>
            <a:ext cx="17859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直腸指診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6"/>
          <p:cNvSpPr/>
          <p:nvPr/>
        </p:nvSpPr>
        <p:spPr>
          <a:xfrm>
            <a:off x="476280" y="4038480"/>
            <a:ext cx="2160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阪国際がん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　　　　　　　　泌尿器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医師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　　　　　　　　　　　　　　）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7"/>
          <p:cNvSpPr/>
          <p:nvPr/>
        </p:nvSpPr>
        <p:spPr>
          <a:xfrm>
            <a:off x="476280" y="3710160"/>
            <a:ext cx="6192720" cy="3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精密検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8"/>
          <p:cNvSpPr/>
          <p:nvPr/>
        </p:nvSpPr>
        <p:spPr>
          <a:xfrm>
            <a:off x="476280" y="371016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9"/>
          <p:cNvSpPr/>
          <p:nvPr/>
        </p:nvSpPr>
        <p:spPr>
          <a:xfrm>
            <a:off x="476280" y="4038480"/>
            <a:ext cx="619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0"/>
          <p:cNvSpPr/>
          <p:nvPr/>
        </p:nvSpPr>
        <p:spPr>
          <a:xfrm>
            <a:off x="476280" y="869796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1"/>
          <p:cNvSpPr/>
          <p:nvPr/>
        </p:nvSpPr>
        <p:spPr>
          <a:xfrm>
            <a:off x="476280" y="3710160"/>
            <a:ext cx="0" cy="4983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2"/>
          <p:cNvSpPr/>
          <p:nvPr/>
        </p:nvSpPr>
        <p:spPr>
          <a:xfrm>
            <a:off x="6669000" y="3710160"/>
            <a:ext cx="0" cy="4983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6"/>
          <p:cNvSpPr/>
          <p:nvPr/>
        </p:nvSpPr>
        <p:spPr>
          <a:xfrm>
            <a:off x="2637000" y="5673600"/>
            <a:ext cx="40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56"/>
          <p:cNvSpPr/>
          <p:nvPr/>
        </p:nvSpPr>
        <p:spPr>
          <a:xfrm>
            <a:off x="2637000" y="4367160"/>
            <a:ext cx="40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60"/>
          <p:cNvSpPr/>
          <p:nvPr/>
        </p:nvSpPr>
        <p:spPr>
          <a:xfrm>
            <a:off x="2637000" y="5024520"/>
            <a:ext cx="40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6"/>
          <p:cNvSpPr/>
          <p:nvPr/>
        </p:nvSpPr>
        <p:spPr>
          <a:xfrm>
            <a:off x="549360" y="7178760"/>
            <a:ext cx="446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治療方針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がん　あり（ガイドラインに基づいて治療を行いま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がん　なし（下記要領にて経過観察をお願いしま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7"/>
          <p:cNvSpPr/>
          <p:nvPr/>
        </p:nvSpPr>
        <p:spPr>
          <a:xfrm>
            <a:off x="1193760" y="7953480"/>
            <a:ext cx="518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ヶ月毎にＰＳＡ検査をお願い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ヶ月毎に定期紹介をお願い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ＰＳＡが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ｍｌ以上の時紹介をお願いしま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24"/>
          <p:cNvSpPr/>
          <p:nvPr/>
        </p:nvSpPr>
        <p:spPr>
          <a:xfrm>
            <a:off x="3500280" y="9104400"/>
            <a:ext cx="3168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　　　年　　　月　　　日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22"/>
          <p:cNvSpPr/>
          <p:nvPr/>
        </p:nvSpPr>
        <p:spPr>
          <a:xfrm>
            <a:off x="476280" y="9104400"/>
            <a:ext cx="3024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　　年　　　月　　　日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71"/>
          <p:cNvSpPr/>
          <p:nvPr/>
        </p:nvSpPr>
        <p:spPr>
          <a:xfrm>
            <a:off x="3500280" y="9439200"/>
            <a:ext cx="3168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　　　年　　　月　　　日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75"/>
          <p:cNvSpPr/>
          <p:nvPr/>
        </p:nvSpPr>
        <p:spPr>
          <a:xfrm>
            <a:off x="476280" y="9439200"/>
            <a:ext cx="3024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　　年　　　月　　　日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6"/>
          <p:cNvSpPr/>
          <p:nvPr/>
        </p:nvSpPr>
        <p:spPr>
          <a:xfrm>
            <a:off x="476280" y="8775720"/>
            <a:ext cx="6192720" cy="32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経過観察（ＰＳＡ検査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77"/>
          <p:cNvSpPr/>
          <p:nvPr/>
        </p:nvSpPr>
        <p:spPr>
          <a:xfrm>
            <a:off x="476280" y="877572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8"/>
          <p:cNvSpPr/>
          <p:nvPr/>
        </p:nvSpPr>
        <p:spPr>
          <a:xfrm>
            <a:off x="476280" y="9104400"/>
            <a:ext cx="619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9"/>
          <p:cNvSpPr/>
          <p:nvPr/>
        </p:nvSpPr>
        <p:spPr>
          <a:xfrm>
            <a:off x="476280" y="977436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0"/>
          <p:cNvSpPr/>
          <p:nvPr/>
        </p:nvSpPr>
        <p:spPr>
          <a:xfrm>
            <a:off x="476280" y="8775720"/>
            <a:ext cx="0" cy="99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81"/>
          <p:cNvSpPr/>
          <p:nvPr/>
        </p:nvSpPr>
        <p:spPr>
          <a:xfrm>
            <a:off x="6669000" y="8775720"/>
            <a:ext cx="0" cy="99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82"/>
          <p:cNvSpPr/>
          <p:nvPr/>
        </p:nvSpPr>
        <p:spPr>
          <a:xfrm>
            <a:off x="3500280" y="91044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3"/>
          <p:cNvSpPr/>
          <p:nvPr/>
        </p:nvSpPr>
        <p:spPr>
          <a:xfrm>
            <a:off x="476280" y="9439200"/>
            <a:ext cx="619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4"/>
          <p:cNvSpPr/>
          <p:nvPr/>
        </p:nvSpPr>
        <p:spPr>
          <a:xfrm>
            <a:off x="476280" y="6578640"/>
            <a:ext cx="2158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ＰＳＡＤ　　　　　　（　　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ｃ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3"/>
          <p:cNvSpPr/>
          <p:nvPr/>
        </p:nvSpPr>
        <p:spPr>
          <a:xfrm>
            <a:off x="476280" y="6019920"/>
            <a:ext cx="2158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Ｔ比　　　　　　　（　　　　　　　　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92"/>
          <p:cNvSpPr/>
          <p:nvPr/>
        </p:nvSpPr>
        <p:spPr>
          <a:xfrm>
            <a:off x="476280" y="5460840"/>
            <a:ext cx="2158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ＰＳＡ再検査値　　　（　　　　　　ｎ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ｌ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96"/>
          <p:cNvSpPr/>
          <p:nvPr/>
        </p:nvSpPr>
        <p:spPr>
          <a:xfrm>
            <a:off x="476280" y="5460840"/>
            <a:ext cx="2158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7"/>
          <p:cNvSpPr/>
          <p:nvPr/>
        </p:nvSpPr>
        <p:spPr>
          <a:xfrm>
            <a:off x="476280" y="6019920"/>
            <a:ext cx="21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98"/>
          <p:cNvSpPr/>
          <p:nvPr/>
        </p:nvSpPr>
        <p:spPr>
          <a:xfrm>
            <a:off x="476280" y="6578640"/>
            <a:ext cx="21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01"/>
          <p:cNvSpPr/>
          <p:nvPr/>
        </p:nvSpPr>
        <p:spPr>
          <a:xfrm>
            <a:off x="476280" y="5460840"/>
            <a:ext cx="0" cy="1676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2"/>
          <p:cNvSpPr/>
          <p:nvPr/>
        </p:nvSpPr>
        <p:spPr>
          <a:xfrm>
            <a:off x="2637000" y="5465880"/>
            <a:ext cx="6120" cy="1676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0"/>
          <p:cNvSpPr/>
          <p:nvPr/>
        </p:nvSpPr>
        <p:spPr>
          <a:xfrm>
            <a:off x="2637000" y="6321600"/>
            <a:ext cx="40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41"/>
          <p:cNvSpPr/>
          <p:nvPr/>
        </p:nvSpPr>
        <p:spPr>
          <a:xfrm>
            <a:off x="2579760" y="5619600"/>
            <a:ext cx="17859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ＭＲＩ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46"/>
          <p:cNvSpPr/>
          <p:nvPr/>
        </p:nvSpPr>
        <p:spPr>
          <a:xfrm>
            <a:off x="2629080" y="4040280"/>
            <a:ext cx="6120" cy="144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8"/>
          <p:cNvSpPr/>
          <p:nvPr/>
        </p:nvSpPr>
        <p:spPr>
          <a:xfrm>
            <a:off x="476280" y="7145280"/>
            <a:ext cx="6192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図 2" descr="E:\連携パス関係\協議会ロゴ.jpg"/>
          <p:cNvPicPr/>
          <p:nvPr/>
        </p:nvPicPr>
        <p:blipFill>
          <a:blip r:embed="rId1"/>
          <a:stretch/>
        </p:blipFill>
        <p:spPr>
          <a:xfrm>
            <a:off x="5000760" y="128520"/>
            <a:ext cx="241200" cy="220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99"/>
          <p:cNvSpPr/>
          <p:nvPr/>
        </p:nvSpPr>
        <p:spPr>
          <a:xfrm>
            <a:off x="5488560" y="12852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阪府がん診療連携協議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2:21:50Z</dcterms:created>
  <dc:creator>医薬営業本部</dc:creator>
  <dc:description/>
  <dc:language>en-US</dc:language>
  <cp:lastModifiedBy>渡辺　友美子</cp:lastModifiedBy>
  <cp:lastPrinted>2021-03-16T02:42:49Z</cp:lastPrinted>
  <dcterms:modified xsi:type="dcterms:W3CDTF">2021-03-16T02:42:58Z</dcterms:modified>
  <cp:revision>18</cp:revision>
  <dc:subject/>
  <dc:title>スライド 1</dc:title>
</cp:coreProperties>
</file>