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DFA69-0565-4187-BF6F-21F3211C9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AF53B-A4FE-4A16-9F79-440EA8DAD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9019F-E7C2-4041-A167-D87C4141D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617F2-6B71-46A5-9BF7-CD82A5501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26DB8-4708-45A7-8BC3-3BE6A7C44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16420-65F2-43D1-865F-EB50B784F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0334B-AE37-4BFD-92CD-1B2CB78D3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BBF21-99D2-41F6-9016-5B2648ACD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43BBE-ADF2-4C08-850E-3139DDC1E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8F666-C268-4472-843B-0BB6F3D52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7D6B0-15D3-4ACD-8BCC-F51F0C5C8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975D9-7AAC-4CC2-A3F4-52667E7B9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9A6B5-C7FE-4C04-A7C4-D73B802685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7"/>
          <p:cNvSpPr/>
          <p:nvPr/>
        </p:nvSpPr>
        <p:spPr>
          <a:xfrm>
            <a:off x="919080" y="3235320"/>
            <a:ext cx="2527560" cy="73548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かかりつけ医　　　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ＰＳＡ検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9"/>
          <p:cNvSpPr/>
          <p:nvPr/>
        </p:nvSpPr>
        <p:spPr>
          <a:xfrm>
            <a:off x="414360" y="1625760"/>
            <a:ext cx="1779480" cy="3988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～</a:t>
            </a:r>
            <a:r>
              <a:rPr b="0" lang="en-US" sz="20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1.0 </a:t>
            </a:r>
            <a:r>
              <a:rPr b="0" lang="ja-JP" sz="20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ｎｇ</a:t>
            </a:r>
            <a:r>
              <a:rPr b="0" lang="en-US" sz="20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/</a:t>
            </a:r>
            <a:r>
              <a:rPr b="0" lang="ja-JP" sz="20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ｍ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10"/>
          <p:cNvSpPr/>
          <p:nvPr/>
        </p:nvSpPr>
        <p:spPr>
          <a:xfrm>
            <a:off x="2298600" y="1623960"/>
            <a:ext cx="2149560" cy="3988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1.1</a:t>
            </a:r>
            <a:r>
              <a:rPr b="0" lang="ja-JP" sz="20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～</a:t>
            </a:r>
            <a:r>
              <a:rPr b="0" lang="en-US" sz="20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4.0 </a:t>
            </a:r>
            <a:r>
              <a:rPr b="0" lang="ja-JP" sz="20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ｎｇ</a:t>
            </a:r>
            <a:r>
              <a:rPr b="0" lang="en-US" sz="20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/</a:t>
            </a:r>
            <a:r>
              <a:rPr b="0" lang="ja-JP" sz="20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ｍ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11"/>
          <p:cNvSpPr/>
          <p:nvPr/>
        </p:nvSpPr>
        <p:spPr>
          <a:xfrm>
            <a:off x="6392880" y="1628640"/>
            <a:ext cx="2305080" cy="3988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4.1 </a:t>
            </a:r>
            <a:r>
              <a:rPr b="0" lang="ja-JP" sz="20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ｎｇ</a:t>
            </a:r>
            <a:r>
              <a:rPr b="0" lang="en-US" sz="20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/</a:t>
            </a:r>
            <a:r>
              <a:rPr b="0" lang="ja-JP" sz="20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ｍｌ～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2"/>
          <p:cNvSpPr/>
          <p:nvPr/>
        </p:nvSpPr>
        <p:spPr>
          <a:xfrm>
            <a:off x="450720" y="2417760"/>
            <a:ext cx="1405080" cy="3988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３年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3"/>
          <p:cNvSpPr/>
          <p:nvPr/>
        </p:nvSpPr>
        <p:spPr>
          <a:xfrm>
            <a:off x="2538360" y="2417760"/>
            <a:ext cx="1405080" cy="3988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１年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5862600" y="2284560"/>
            <a:ext cx="2259000" cy="39888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泌尿器科専門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15"/>
          <p:cNvSpPr/>
          <p:nvPr/>
        </p:nvSpPr>
        <p:spPr>
          <a:xfrm>
            <a:off x="5861160" y="2924280"/>
            <a:ext cx="3311280" cy="3988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大阪国際がんセンター 生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6"/>
          <p:cNvSpPr/>
          <p:nvPr/>
        </p:nvSpPr>
        <p:spPr>
          <a:xfrm>
            <a:off x="7151760" y="4653000"/>
            <a:ext cx="2625480" cy="7354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大阪国際がんセンタ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病期診断・治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7"/>
          <p:cNvSpPr/>
          <p:nvPr/>
        </p:nvSpPr>
        <p:spPr>
          <a:xfrm>
            <a:off x="4448160" y="5796000"/>
            <a:ext cx="3448080" cy="73548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泌尿器科専門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再生検の適応の判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8"/>
          <p:cNvSpPr/>
          <p:nvPr/>
        </p:nvSpPr>
        <p:spPr>
          <a:xfrm>
            <a:off x="7832880" y="3860640"/>
            <a:ext cx="1110960" cy="3988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陽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9"/>
          <p:cNvSpPr/>
          <p:nvPr/>
        </p:nvSpPr>
        <p:spPr>
          <a:xfrm>
            <a:off x="5097600" y="3867120"/>
            <a:ext cx="1128600" cy="3988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陰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20"/>
          <p:cNvSpPr/>
          <p:nvPr/>
        </p:nvSpPr>
        <p:spPr>
          <a:xfrm>
            <a:off x="1131840" y="1268280"/>
            <a:ext cx="6475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21"/>
          <p:cNvSpPr/>
          <p:nvPr/>
        </p:nvSpPr>
        <p:spPr>
          <a:xfrm>
            <a:off x="4808520" y="1123920"/>
            <a:ext cx="0" cy="144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31"/>
          <p:cNvSpPr/>
          <p:nvPr/>
        </p:nvSpPr>
        <p:spPr>
          <a:xfrm flipH="1">
            <a:off x="8408880" y="2068560"/>
            <a:ext cx="14400" cy="855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33"/>
          <p:cNvSpPr/>
          <p:nvPr/>
        </p:nvSpPr>
        <p:spPr>
          <a:xfrm>
            <a:off x="5692680" y="3510000"/>
            <a:ext cx="27291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1"/>
          <p:cNvSpPr/>
          <p:nvPr/>
        </p:nvSpPr>
        <p:spPr>
          <a:xfrm>
            <a:off x="4448160" y="4653000"/>
            <a:ext cx="2527200" cy="73548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かかりつけ医　　　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ＰＳＡフォロ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42"/>
          <p:cNvSpPr/>
          <p:nvPr/>
        </p:nvSpPr>
        <p:spPr>
          <a:xfrm>
            <a:off x="3584520" y="331920"/>
            <a:ext cx="2527200" cy="73548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かかりつけ医　　　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ＰＳＡ検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43"/>
          <p:cNvSpPr/>
          <p:nvPr/>
        </p:nvSpPr>
        <p:spPr>
          <a:xfrm>
            <a:off x="1135080" y="1268280"/>
            <a:ext cx="0" cy="360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44"/>
          <p:cNvSpPr/>
          <p:nvPr/>
        </p:nvSpPr>
        <p:spPr>
          <a:xfrm>
            <a:off x="3222720" y="2060640"/>
            <a:ext cx="0" cy="360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45"/>
          <p:cNvSpPr/>
          <p:nvPr/>
        </p:nvSpPr>
        <p:spPr>
          <a:xfrm>
            <a:off x="1135080" y="2060640"/>
            <a:ext cx="0" cy="360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46"/>
          <p:cNvSpPr/>
          <p:nvPr/>
        </p:nvSpPr>
        <p:spPr>
          <a:xfrm>
            <a:off x="3222720" y="2852640"/>
            <a:ext cx="0" cy="360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47"/>
          <p:cNvSpPr/>
          <p:nvPr/>
        </p:nvSpPr>
        <p:spPr>
          <a:xfrm>
            <a:off x="1135080" y="2852640"/>
            <a:ext cx="0" cy="360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48"/>
          <p:cNvSpPr/>
          <p:nvPr/>
        </p:nvSpPr>
        <p:spPr>
          <a:xfrm>
            <a:off x="3222720" y="1268280"/>
            <a:ext cx="0" cy="360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49"/>
          <p:cNvSpPr/>
          <p:nvPr/>
        </p:nvSpPr>
        <p:spPr>
          <a:xfrm>
            <a:off x="7597800" y="1268280"/>
            <a:ext cx="0" cy="360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51"/>
          <p:cNvSpPr/>
          <p:nvPr/>
        </p:nvSpPr>
        <p:spPr>
          <a:xfrm>
            <a:off x="6753240" y="2708280"/>
            <a:ext cx="0" cy="21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52"/>
          <p:cNvSpPr/>
          <p:nvPr/>
        </p:nvSpPr>
        <p:spPr>
          <a:xfrm>
            <a:off x="6753240" y="2060640"/>
            <a:ext cx="0" cy="21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53"/>
          <p:cNvSpPr/>
          <p:nvPr/>
        </p:nvSpPr>
        <p:spPr>
          <a:xfrm>
            <a:off x="7607160" y="3357720"/>
            <a:ext cx="0" cy="144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55"/>
          <p:cNvSpPr/>
          <p:nvPr/>
        </p:nvSpPr>
        <p:spPr>
          <a:xfrm>
            <a:off x="5692680" y="3490920"/>
            <a:ext cx="0" cy="360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56"/>
          <p:cNvSpPr/>
          <p:nvPr/>
        </p:nvSpPr>
        <p:spPr>
          <a:xfrm>
            <a:off x="8408880" y="4292640"/>
            <a:ext cx="0" cy="360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57"/>
          <p:cNvSpPr/>
          <p:nvPr/>
        </p:nvSpPr>
        <p:spPr>
          <a:xfrm>
            <a:off x="8408880" y="3500280"/>
            <a:ext cx="0" cy="360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58"/>
          <p:cNvSpPr/>
          <p:nvPr/>
        </p:nvSpPr>
        <p:spPr>
          <a:xfrm>
            <a:off x="5692680" y="4292640"/>
            <a:ext cx="0" cy="360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59"/>
          <p:cNvSpPr/>
          <p:nvPr/>
        </p:nvSpPr>
        <p:spPr>
          <a:xfrm>
            <a:off x="5673600" y="5416560"/>
            <a:ext cx="0" cy="360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60"/>
          <p:cNvSpPr/>
          <p:nvPr/>
        </p:nvSpPr>
        <p:spPr>
          <a:xfrm>
            <a:off x="7237440" y="2667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61"/>
          <p:cNvSpPr/>
          <p:nvPr/>
        </p:nvSpPr>
        <p:spPr>
          <a:xfrm>
            <a:off x="632160" y="5877000"/>
            <a:ext cx="1643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大阪府がん診療地域連携部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前立腺がん連携パスフローチャー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5T11:59:35Z</dcterms:created>
  <dc:creator>医薬営業本部</dc:creator>
  <dc:description/>
  <dc:language>en-US</dc:language>
  <cp:lastModifiedBy>渡辺　友美子</cp:lastModifiedBy>
  <cp:lastPrinted>2021-03-16T02:44:09Z</cp:lastPrinted>
  <dcterms:modified xsi:type="dcterms:W3CDTF">2021-03-16T02:44:15Z</dcterms:modified>
  <cp:revision>7</cp:revision>
  <dc:subject/>
  <dc:title>スライド 1</dc:title>
</cp:coreProperties>
</file>