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6F5-E762-4B91-9263-C254080B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75B-C3D8-4C83-9A59-1DE367FF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3CF-289E-4EE8-8B78-6D756103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8CE-E4F3-4450-ACBA-99A2B823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A6A-C6BF-4E05-A4AD-20EEA589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AE0-A1BB-480F-818C-B54C4103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700-4367-4C29-9942-D20D310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DDD-A074-448D-9056-43581071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4C9-D0E5-471B-9768-EBCF11E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E8C-1C75-4EF7-888B-F6E6B26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A4C-D462-497D-A147-6846265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209-B3E0-4F7C-8244-033324E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39D5-DD1D-474D-8828-AC6C52B4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0"/>
          <p:cNvSpPr/>
          <p:nvPr/>
        </p:nvSpPr>
        <p:spPr>
          <a:xfrm>
            <a:off x="166680" y="1990800"/>
            <a:ext cx="2881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3280" y="3621240"/>
            <a:ext cx="2664000" cy="447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72880" y="260280"/>
            <a:ext cx="583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0000"/>
                </a:solidFill>
                <a:latin typeface="HGP創英角ｺﾞｼｯｸUB"/>
                <a:ea typeface="HGP創英角ｺﾞｼｯｸUB"/>
              </a:rPr>
              <a:t>前立腺がん地域連携パス </a:t>
            </a:r>
            <a:r>
              <a:rPr b="0" lang="ja-JP" sz="1600" spc="-1" strike="noStrike">
                <a:solidFill>
                  <a:srgbClr val="800000"/>
                </a:solidFill>
                <a:latin typeface="HGP創英角ｺﾞｼｯｸUB"/>
                <a:ea typeface="HGP創英角ｺﾞｼｯｸUB"/>
              </a:rPr>
              <a:t>「患者用パス」</a:t>
            </a:r>
            <a:r>
              <a:rPr b="0" lang="ja-JP" sz="1800" spc="-1" strike="noStrike">
                <a:solidFill>
                  <a:srgbClr val="8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ja-JP" sz="1400" spc="-1" strike="noStrike">
                <a:solidFill>
                  <a:srgbClr val="800000"/>
                </a:solidFill>
                <a:latin typeface="HGP創英角ｺﾞｼｯｸUB"/>
                <a:ea typeface="HGP創英角ｺﾞｼｯｸUB"/>
              </a:rPr>
              <a:t>（裏面もお読みください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382680" y="2077920"/>
            <a:ext cx="250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あなたの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SA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値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　　　　　　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ng/ml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7040880" y="1990800"/>
            <a:ext cx="129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経過観察の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"/>
          <p:cNvSpPr/>
          <p:nvPr/>
        </p:nvSpPr>
        <p:spPr>
          <a:xfrm>
            <a:off x="115920" y="2610000"/>
            <a:ext cx="196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9"/>
          <p:cNvSpPr/>
          <p:nvPr/>
        </p:nvSpPr>
        <p:spPr>
          <a:xfrm>
            <a:off x="325440" y="3408480"/>
            <a:ext cx="134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.0 ng/ml 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以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.1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.0 ng/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.1 ng/ml 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9"/>
          <p:cNvSpPr/>
          <p:nvPr/>
        </p:nvSpPr>
        <p:spPr>
          <a:xfrm>
            <a:off x="6627960" y="5330880"/>
            <a:ext cx="31492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紹介元：　　医院　（　　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-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　　　　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-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　　　　　　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　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担当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6595920" y="5857920"/>
            <a:ext cx="3427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大阪国際がんセンター　（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06-6945-1181</a:t>
            </a:r>
            <a:r>
              <a:rPr b="0" lang="ja-JP" sz="13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代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担当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236520" y="4746600"/>
            <a:ext cx="2806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グレーゾーン以上の数値の場合は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前立腺がんの可能性が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専門医による精密検査の必要性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あると考えられますの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センター・泌尿器科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紹介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7"/>
          <p:cNvSpPr/>
          <p:nvPr/>
        </p:nvSpPr>
        <p:spPr>
          <a:xfrm>
            <a:off x="1323720" y="2860560"/>
            <a:ext cx="541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SA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値は一般的に以下の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判定さ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9"/>
          <p:cNvSpPr/>
          <p:nvPr/>
        </p:nvSpPr>
        <p:spPr>
          <a:xfrm>
            <a:off x="239760" y="1557360"/>
            <a:ext cx="2879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医院　（　　　年　　　月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4622760" y="1990800"/>
            <a:ext cx="174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外来で、主に下記のような検査を実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詳しくは担当医が説明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6"/>
          <p:cNvSpPr/>
          <p:nvPr/>
        </p:nvSpPr>
        <p:spPr>
          <a:xfrm>
            <a:off x="7255800" y="2370240"/>
            <a:ext cx="18144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次検診の結果、前立腺がんを疑う所見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認められませんでした。しかしなが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がん病巣が小さいために所見が得ら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なかった可能性は否定できませ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今後は、定期的なＰＳＡ検査を行うこと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前立腺がんの早期発見に結びつく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考えられ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SA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値の変動が見られた場合に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度、成人病センターで検査を受け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いただくことが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0"/>
          <p:cNvGrpSpPr/>
          <p:nvPr/>
        </p:nvGrpSpPr>
        <p:grpSpPr>
          <a:xfrm>
            <a:off x="2398680" y="1330200"/>
            <a:ext cx="1534680" cy="155520"/>
            <a:chOff x="2398680" y="1330200"/>
            <a:chExt cx="1534680" cy="155520"/>
          </a:xfrm>
        </p:grpSpPr>
        <p:sp>
          <p:nvSpPr>
            <p:cNvPr id="56" name="Line 88"/>
            <p:cNvSpPr/>
            <p:nvPr/>
          </p:nvSpPr>
          <p:spPr>
            <a:xfrm>
              <a:off x="2398680" y="1406520"/>
              <a:ext cx="13748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9"/>
            <p:cNvSpPr/>
            <p:nvPr/>
          </p:nvSpPr>
          <p:spPr>
            <a:xfrm>
              <a:off x="3768480" y="1330200"/>
              <a:ext cx="164880" cy="155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6" h="98">
                  <a:moveTo>
                    <a:pt x="0" y="98"/>
                  </a:moveTo>
                  <a:lnTo>
                    <a:pt x="96" y="48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93"/>
          <p:cNvGrpSpPr/>
          <p:nvPr/>
        </p:nvGrpSpPr>
        <p:grpSpPr>
          <a:xfrm>
            <a:off x="5854680" y="1330200"/>
            <a:ext cx="1445400" cy="155520"/>
            <a:chOff x="5854680" y="1330200"/>
            <a:chExt cx="1445400" cy="155520"/>
          </a:xfrm>
        </p:grpSpPr>
        <p:sp>
          <p:nvSpPr>
            <p:cNvPr id="59" name="Line 91"/>
            <p:cNvSpPr/>
            <p:nvPr/>
          </p:nvSpPr>
          <p:spPr>
            <a:xfrm>
              <a:off x="5854680" y="1406520"/>
              <a:ext cx="1284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2"/>
            <p:cNvSpPr/>
            <p:nvPr/>
          </p:nvSpPr>
          <p:spPr>
            <a:xfrm>
              <a:off x="7131960" y="1330200"/>
              <a:ext cx="168120" cy="155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8" h="98">
                  <a:moveTo>
                    <a:pt x="0" y="98"/>
                  </a:moveTo>
                  <a:lnTo>
                    <a:pt x="98" y="50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543"/>
          <p:cNvSpPr/>
          <p:nvPr/>
        </p:nvSpPr>
        <p:spPr>
          <a:xfrm flipV="1">
            <a:off x="3119400" y="1125000"/>
            <a:ext cx="38160" cy="537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44"/>
          <p:cNvSpPr/>
          <p:nvPr/>
        </p:nvSpPr>
        <p:spPr>
          <a:xfrm flipV="1">
            <a:off x="6499080" y="1125360"/>
            <a:ext cx="5040" cy="536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45"/>
          <p:cNvSpPr/>
          <p:nvPr/>
        </p:nvSpPr>
        <p:spPr>
          <a:xfrm>
            <a:off x="104760" y="6512040"/>
            <a:ext cx="970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46"/>
          <p:cNvSpPr/>
          <p:nvPr/>
        </p:nvSpPr>
        <p:spPr>
          <a:xfrm>
            <a:off x="1679400" y="3405240"/>
            <a:ext cx="122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： 陰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： グレーゾ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： 陽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47"/>
          <p:cNvSpPr/>
          <p:nvPr/>
        </p:nvSpPr>
        <p:spPr>
          <a:xfrm>
            <a:off x="109440" y="1125360"/>
            <a:ext cx="970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48"/>
          <p:cNvSpPr/>
          <p:nvPr/>
        </p:nvSpPr>
        <p:spPr>
          <a:xfrm>
            <a:off x="109440" y="1917720"/>
            <a:ext cx="970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0"/>
          <p:cNvSpPr/>
          <p:nvPr/>
        </p:nvSpPr>
        <p:spPr>
          <a:xfrm flipV="1">
            <a:off x="95400" y="1125360"/>
            <a:ext cx="0" cy="540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51"/>
          <p:cNvSpPr/>
          <p:nvPr/>
        </p:nvSpPr>
        <p:spPr>
          <a:xfrm flipV="1">
            <a:off x="9806040" y="1125000"/>
            <a:ext cx="9360" cy="537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95"/>
          <p:cNvSpPr/>
          <p:nvPr/>
        </p:nvSpPr>
        <p:spPr>
          <a:xfrm>
            <a:off x="166680" y="2774880"/>
            <a:ext cx="2879640" cy="195120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951200"/>
              <a:gd name="textAreaBottom" fmla="*/ 1951560 h 1951200"/>
            </a:gdLst>
            <a:ahLst/>
            <a:rect l="textAreaLeft" t="textAreaTop" r="textAreaRight" b="textAreaBottom"/>
            <a:pathLst>
              <a:path w="1769" h="1002">
                <a:moveTo>
                  <a:pt x="0" y="0"/>
                </a:moveTo>
                <a:lnTo>
                  <a:pt x="1769" y="0"/>
                </a:lnTo>
                <a:lnTo>
                  <a:pt x="1769" y="745"/>
                </a:lnTo>
                <a:lnTo>
                  <a:pt x="1103" y="745"/>
                </a:lnTo>
                <a:lnTo>
                  <a:pt x="1103" y="821"/>
                </a:lnTo>
                <a:lnTo>
                  <a:pt x="1327" y="821"/>
                </a:lnTo>
                <a:lnTo>
                  <a:pt x="884" y="1002"/>
                </a:lnTo>
                <a:lnTo>
                  <a:pt x="442" y="821"/>
                </a:lnTo>
                <a:lnTo>
                  <a:pt x="666" y="821"/>
                </a:lnTo>
                <a:lnTo>
                  <a:pt x="666" y="745"/>
                </a:lnTo>
                <a:lnTo>
                  <a:pt x="0" y="745"/>
                </a:lnTo>
                <a:lnTo>
                  <a:pt x="0" y="0"/>
                </a:lnTo>
                <a:close/>
              </a:path>
            </a:pathLst>
          </a:custGeom>
          <a:noFill/>
          <a:ln cap="rnd"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555"/>
          <p:cNvGrpSpPr/>
          <p:nvPr/>
        </p:nvGrpSpPr>
        <p:grpSpPr>
          <a:xfrm>
            <a:off x="3525840" y="2432160"/>
            <a:ext cx="1134000" cy="942120"/>
            <a:chOff x="3525840" y="2432160"/>
            <a:chExt cx="1134000" cy="942120"/>
          </a:xfrm>
        </p:grpSpPr>
        <p:sp>
          <p:nvSpPr>
            <p:cNvPr id="71" name="Rectangle 24"/>
            <p:cNvSpPr/>
            <p:nvPr/>
          </p:nvSpPr>
          <p:spPr>
            <a:xfrm>
              <a:off x="3544200" y="2432160"/>
              <a:ext cx="111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□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</a:t>
              </a: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PSA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再検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3620880" y="291636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□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直腸指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3525840" y="2675160"/>
              <a:ext cx="9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□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Ｆ</a:t>
              </a: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/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Ｔ比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54"/>
            <p:cNvSpPr/>
            <p:nvPr/>
          </p:nvSpPr>
          <p:spPr>
            <a:xfrm>
              <a:off x="3560400" y="316080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□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ＭＲＩ検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557"/>
          <p:cNvSpPr/>
          <p:nvPr/>
        </p:nvSpPr>
        <p:spPr>
          <a:xfrm>
            <a:off x="114480" y="270972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72"/>
          <p:cNvSpPr/>
          <p:nvPr/>
        </p:nvSpPr>
        <p:spPr>
          <a:xfrm>
            <a:off x="6494400" y="5230800"/>
            <a:ext cx="331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74"/>
          <p:cNvSpPr/>
          <p:nvPr/>
        </p:nvSpPr>
        <p:spPr>
          <a:xfrm>
            <a:off x="230040" y="3381480"/>
            <a:ext cx="266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75"/>
          <p:cNvSpPr/>
          <p:nvPr/>
        </p:nvSpPr>
        <p:spPr>
          <a:xfrm>
            <a:off x="230040" y="4064040"/>
            <a:ext cx="266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577"/>
          <p:cNvSpPr/>
          <p:nvPr/>
        </p:nvSpPr>
        <p:spPr>
          <a:xfrm>
            <a:off x="3262320" y="1976400"/>
            <a:ext cx="2952720" cy="1943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1769" h="1002">
                <a:moveTo>
                  <a:pt x="0" y="0"/>
                </a:moveTo>
                <a:lnTo>
                  <a:pt x="1769" y="0"/>
                </a:lnTo>
                <a:lnTo>
                  <a:pt x="1769" y="745"/>
                </a:lnTo>
                <a:lnTo>
                  <a:pt x="1103" y="745"/>
                </a:lnTo>
                <a:lnTo>
                  <a:pt x="1103" y="821"/>
                </a:lnTo>
                <a:lnTo>
                  <a:pt x="1327" y="821"/>
                </a:lnTo>
                <a:lnTo>
                  <a:pt x="884" y="1002"/>
                </a:lnTo>
                <a:lnTo>
                  <a:pt x="442" y="821"/>
                </a:lnTo>
                <a:lnTo>
                  <a:pt x="666" y="821"/>
                </a:lnTo>
                <a:lnTo>
                  <a:pt x="666" y="745"/>
                </a:lnTo>
                <a:lnTo>
                  <a:pt x="0" y="745"/>
                </a:lnTo>
                <a:lnTo>
                  <a:pt x="0" y="0"/>
                </a:lnTo>
                <a:close/>
              </a:path>
            </a:pathLst>
          </a:custGeom>
          <a:noFill/>
          <a:ln cap="rnd"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78"/>
          <p:cNvSpPr/>
          <p:nvPr/>
        </p:nvSpPr>
        <p:spPr>
          <a:xfrm>
            <a:off x="4124160" y="1581120"/>
            <a:ext cx="193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9"/>
          <p:cNvSpPr/>
          <p:nvPr/>
        </p:nvSpPr>
        <p:spPr>
          <a:xfrm>
            <a:off x="6638760" y="1492200"/>
            <a:ext cx="327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（　　　年　　　月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581"/>
          <p:cNvSpPr/>
          <p:nvPr/>
        </p:nvSpPr>
        <p:spPr>
          <a:xfrm>
            <a:off x="3262320" y="3952800"/>
            <a:ext cx="2952720" cy="136836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769" h="1002">
                <a:moveTo>
                  <a:pt x="0" y="0"/>
                </a:moveTo>
                <a:lnTo>
                  <a:pt x="1769" y="0"/>
                </a:lnTo>
                <a:lnTo>
                  <a:pt x="1769" y="745"/>
                </a:lnTo>
                <a:lnTo>
                  <a:pt x="1103" y="745"/>
                </a:lnTo>
                <a:lnTo>
                  <a:pt x="1103" y="821"/>
                </a:lnTo>
                <a:lnTo>
                  <a:pt x="1327" y="821"/>
                </a:lnTo>
                <a:lnTo>
                  <a:pt x="884" y="1002"/>
                </a:lnTo>
                <a:lnTo>
                  <a:pt x="442" y="821"/>
                </a:lnTo>
                <a:lnTo>
                  <a:pt x="666" y="821"/>
                </a:lnTo>
                <a:lnTo>
                  <a:pt x="666" y="745"/>
                </a:lnTo>
                <a:lnTo>
                  <a:pt x="0" y="745"/>
                </a:lnTo>
                <a:lnTo>
                  <a:pt x="0" y="0"/>
                </a:lnTo>
                <a:close/>
              </a:path>
            </a:pathLst>
          </a:custGeom>
          <a:noFill/>
          <a:ln cap="rnd"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3"/>
          <p:cNvSpPr/>
          <p:nvPr/>
        </p:nvSpPr>
        <p:spPr>
          <a:xfrm>
            <a:off x="3075840" y="4006800"/>
            <a:ext cx="3030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前立腺生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　　　　年　　　　　月　　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84"/>
          <p:cNvSpPr/>
          <p:nvPr/>
        </p:nvSpPr>
        <p:spPr>
          <a:xfrm>
            <a:off x="3406680" y="46339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86"/>
          <p:cNvSpPr/>
          <p:nvPr/>
        </p:nvSpPr>
        <p:spPr>
          <a:xfrm>
            <a:off x="3942720" y="4581360"/>
            <a:ext cx="162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必要なし　　　　□必要あ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88"/>
          <p:cNvSpPr/>
          <p:nvPr/>
        </p:nvSpPr>
        <p:spPr>
          <a:xfrm>
            <a:off x="3262320" y="5375160"/>
            <a:ext cx="3024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9"/>
          <p:cNvSpPr/>
          <p:nvPr/>
        </p:nvSpPr>
        <p:spPr>
          <a:xfrm>
            <a:off x="3279600" y="5357880"/>
            <a:ext cx="31863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　　　　年　　　　月　　　　　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前立腺がんを疑う所見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紹介元で経過観察を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前立腺がんあ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阪国際がん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センターで治療方針を決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90"/>
          <p:cNvSpPr/>
          <p:nvPr/>
        </p:nvSpPr>
        <p:spPr>
          <a:xfrm>
            <a:off x="200160" y="620640"/>
            <a:ext cx="40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患者様氏名：　　　　　　　　　　　　　　　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91"/>
          <p:cNvGraphicFramePr/>
          <p:nvPr/>
        </p:nvGraphicFramePr>
        <p:xfrm>
          <a:off x="2327400" y="5518080"/>
          <a:ext cx="51912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5518080"/>
                    <a:ext cx="5191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594"/>
          <p:cNvSpPr/>
          <p:nvPr/>
        </p:nvSpPr>
        <p:spPr>
          <a:xfrm>
            <a:off x="7799400" y="1198440"/>
            <a:ext cx="117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経過観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95"/>
          <p:cNvSpPr/>
          <p:nvPr/>
        </p:nvSpPr>
        <p:spPr>
          <a:xfrm>
            <a:off x="4441680" y="1198440"/>
            <a:ext cx="10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6"/>
          <p:cNvSpPr/>
          <p:nvPr/>
        </p:nvSpPr>
        <p:spPr>
          <a:xfrm>
            <a:off x="1076400" y="119844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99"/>
          <p:cNvSpPr/>
          <p:nvPr/>
        </p:nvSpPr>
        <p:spPr>
          <a:xfrm>
            <a:off x="7950240" y="571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阪府がん診療連携協議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2" descr="E:\連携パス関係\協議会ロゴ.jpg"/>
          <p:cNvPicPr/>
          <p:nvPr/>
        </p:nvPicPr>
        <p:blipFill>
          <a:blip r:embed="rId3"/>
          <a:stretch/>
        </p:blipFill>
        <p:spPr>
          <a:xfrm>
            <a:off x="7238880" y="571680"/>
            <a:ext cx="312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2:09:33Z</dcterms:created>
  <dc:creator>医薬営業本部</dc:creator>
  <dc:description/>
  <dc:language>en-US</dc:language>
  <cp:lastModifiedBy>渡辺　友美子</cp:lastModifiedBy>
  <dcterms:modified xsi:type="dcterms:W3CDTF">2021-03-15T05:51:24Z</dcterms:modified>
  <cp:revision>29</cp:revision>
  <dc:subject/>
  <dc:title>スライド 1</dc:title>
</cp:coreProperties>
</file>